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7E7-C5E5-4812-BE72-DCF6DBCB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EEE-244E-41FC-8C28-CA857BAE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A8817-6F8C-4497-8792-802AC4B6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55258-1D27-4008-9B81-6965F1B5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57AA9-4E7D-4855-87BA-004B3D51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5CD0A-1EEA-46BE-BD06-A09409C0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0A0E5-035F-4AE7-A503-2E5CD6D5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88A87-41E0-4DE2-BCE1-DA035438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43FCF-FEAF-4505-B8AC-28A4EA2F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0F568-60BD-40C7-9E29-686D5355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2298F-60DD-436F-96BA-6A221D9F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FE511-33F8-4FF7-9A90-77159EB8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E1E-D5A3-4CDF-9E1F-EF967E31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B6D3E-F370-4886-8293-6BEC7998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6E7B9-A0E5-415F-96E7-82F66AB8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9495C-CC6B-4558-89A0-8E97646B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B667A-9FA2-4D46-915B-D0374A24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950F7-B0CB-4CCB-A704-A5FF76AA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32E52-54D4-413F-A32D-4400C2E6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D07B2-2842-4812-90F9-9CBF136A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FEB97-7555-4F5A-AE4A-E94DF84A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D1D8E-B74D-47F4-97C9-E2FF954E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D4171-39CB-4A69-9A26-7C331827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B39-7484-47B7-84A2-624DB750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97FAC-B335-4B4A-8AB2-EFDC290C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E362E2-8E2E-4C52-BA1F-DD27F4A2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78A58D-C1CD-4379-8213-0FD1B8CF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44B74C-A22A-4701-AEC4-E6A7CD0B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2DA010-CDCA-481D-9AA3-42437C6D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E93310-2D81-4836-88EB-6EBABBCB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D723F0-798E-4522-9D0F-952DA834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D46889-D112-4700-BEA8-B37EB9C1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7B52EB-9EA5-4501-953C-B7D875A9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7DE901-4D66-4679-96E8-D144C3FD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11A9B-0722-409B-B6A4-7B3ACDE6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B896C5-2001-4B15-9EC1-8D533A96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DAB5ED-2BD7-4236-9347-8AAB1EC8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E9DF3B-7AAD-4AFE-B5B1-9BF68AB1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3EA3D-5D74-42D5-84F2-E1CCE27A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E4F44-B715-4412-95FB-BFBE4BE2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14C2A-F68F-4EA9-98AC-1D52CDD7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A6FE1-7872-49E2-83ED-AB67D6F9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D7190-D073-4701-9C61-DC973A4D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D86B3-D5C9-43CF-94DF-A10F9657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2F4DE-73EA-42FA-A88A-A072F88F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54907-3A5A-4E98-8DBE-5F231956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89879-018E-4733-96A3-7D4400CD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325D4-17A6-4EB2-8ED3-F2C268A2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4B63B-4D66-4E7A-BEA2-381CB1D3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764DB-E047-49D6-9490-1E1AA0CB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E7DAC-A2ED-49DA-AE29-09E302F2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CF638-7FA0-4DCB-BD9A-DA53C837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E0B8A-A571-4410-AD5A-118EA32F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6B272-9B2A-4B31-B72C-489A6930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7D872-F4DF-46E7-ACDE-7C1DF3F0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7E032-31F6-4DD6-B661-EEBEC83D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2E349-CDD2-4423-8019-D7562867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5119F-AC66-4C0F-8E4A-8A820B0C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5AE61-2C0F-4257-A2AE-8F63D1F6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9649B-E4F7-460D-ADFD-EA03389A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62413D-5B3F-4BD4-91FE-11115691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4B486-E5B0-45B4-8F1D-24AE6EBB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19F0F-8571-4D1E-96F9-B3A2D74E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E2EF3-4BA0-4EA9-AAFF-A0A66D1D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64D39-FBA8-42F4-B6E4-F3AFE834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7A7A2-3556-4116-8818-49E39BE4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A655C-687F-4B58-9E21-52B1CFB7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04084-7976-4CAB-AAD9-B07F0F26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912D0-913F-400A-8005-37F05227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BB817D-2CD5-474F-AF35-549CEF09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B5D57A-973C-4C2D-A47E-03D13E08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A3399-8C74-4F7C-88B3-D707393C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4C09C-4425-4666-BCDA-8881A816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3CCCA-E89A-441B-8D6F-EBB91029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7EB56-F7AA-4B28-9B08-DD53FA50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5C8B96-7460-462B-8A28-DB67EEA6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4AF799-0F87-4D20-8B5B-DE29F74F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DFF901-FB9C-4DC2-9BBC-84D131BD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FA60B-3D9C-4593-8026-DAB666E2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33B4F2-BF0A-4917-85E0-FB6B078D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23CBC5-0CAD-429F-8F66-205447D9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D04295-CD41-432B-BE4C-7DCA7E36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EB210C-33B2-4CED-A14B-469D5633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22948F-816B-4395-B067-8E99591A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60FC01-4B7D-424B-9394-06E8DBB8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3F29D8-C97C-4901-BA28-26B1BC4F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7BD634-896F-47A4-9312-F8C63A9A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941D0-A2DC-48CC-BF22-DF5F3C03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DAC993-F191-4A25-9BD9-0AD7E2D8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EB662-9AD1-4CFE-A411-2E408580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5EF9A9-B342-4460-B8AA-53D30C4C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D34534-AF38-4A81-A698-20E93C57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071E5D-E143-40F6-952F-D734D662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84F0F3-310F-4C8A-A76E-49305D7C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5B7D4F-CCC0-47EC-87B8-ADCFCF3B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A9B9B9-A4F3-4F99-A28F-44D8713B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A72765-E3C5-458B-B652-1CCDB443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6380FB-2795-488B-A9F6-95343DF1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8D5159-2E84-47B2-9E82-0450B981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90CB65-2A73-4D7C-A869-78B68A9D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D86D1-2571-40F1-AAF5-3318D1B9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D66CE0-7B3A-4CEA-A192-0F92A866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86474-D85D-4027-A492-7CBDD8C2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22BB68-DC23-4796-86D4-AA708A29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F01-DE61-4211-9B97-F84051D7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E32D7-E15B-4E5D-A4F6-EA3E021E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1505D-3894-4A73-ADB5-5E78543A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4F39C-34C0-438D-9191-6ABD6811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BE53C-21E4-482F-9213-79CD2C02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509B2-1D6C-4ED2-823E-A99112DA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99742-422D-424B-84DD-FC3584F3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95901-300B-4E86-A7D5-68B8AA90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F8C06-62B0-41BF-A89B-B70565E8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833B3-61D1-4C12-A640-D781645D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32BE-DD7D-4263-B93B-1BDB9CF7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6909-1B57-495F-8494-FF730B95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F88A3-4B71-496D-A083-4D07A295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B907C-82BB-43A2-B41C-0CB85D2D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2994C-7492-44C1-8CC6-AC15468A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72F19-B8C8-4FA7-964F-6137E77E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213B-B389-454B-9CCB-EA8701E6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B0A6E-B409-4785-AA37-CB0B1A4A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3CB7B-1211-41C1-AF8D-FB1C0640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D314E-4217-4884-80C6-905A89A1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14430-71E4-48C0-8DF0-980C6134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A9832-23BB-44CB-9B25-D302469B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1DB-9229-49D1-8DC6-1ABFBC47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60D5E-21CF-44D3-BF55-9657F480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22490-226D-41CF-AD8B-3CA36A70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B4C7D-A594-48AC-962B-5B92C9E2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B04BC-DC42-42FD-97C0-75F64127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46A8A-1C31-40D8-982F-0E1E80BF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14ACA-EC37-43D7-9BFA-909118AE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77000-0838-4CA3-8BC1-CB1BB2ED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76A4C-3517-4F87-A616-319AE06F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2513F-67AF-4AEB-8681-8FCBBFCF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9EF4F-122A-44F1-BB9D-308EF097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7FF7-FC2D-4068-BA51-C44619F0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58EF9-B52F-47F3-BE8E-2903C8D8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B433A-1578-45B0-AFFD-AA97CA3C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98D1F-BC56-4F59-9AA7-369E2637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A3037-BFA3-4C69-82A3-F9DC22BC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EABEF-69D8-4F49-8E86-E2DEAE93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AF413-736E-4A08-A8DE-34A044F0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49A1E-441D-4979-8300-2CE9F2BC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0404F-45A6-48CD-9CD8-F8ACA64C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C49B2-2710-4789-B921-7B2F078D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78E3A-2562-453F-BB29-D2396203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316-28E2-4591-8AD5-1CF9F51D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D7E1F-0E0D-4F42-9D43-7951890A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926AF-DF21-4DEA-985E-575F5AC9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F3118-82E9-4049-AF1D-D660F639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FF39B-9111-4847-909D-4C8844B3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C6493-7686-4BCD-A492-019F26A7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4F816-BE20-4E00-86A4-C2D87B63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23820-CB9D-4F72-BCAC-9F82289A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B79B1-1BCD-4D54-90FA-33166C0E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E0EE7-8134-41A1-B3F7-6E8F573A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F126D-5DAB-4D02-9155-30AC3781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E62-5349-4269-BB6E-29D438CB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883EB-7AB5-4A7D-9AD8-C8A0620A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E692F-A5E7-4CC8-8FEF-F75B08CA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E1121-1CB4-4B00-B83D-F59F3DC8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34CF8-A043-4A1E-BC49-BD1F444C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8C744-4C72-481F-9C03-6444A8CC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37BA7-0D60-4216-B9B6-F3E1656C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11F69-713A-4BA8-BAC5-624AC96D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E7DDC-CB34-4100-BA87-F8CD83B7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D084B-49BF-419A-B191-A2610CEB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B1A78-5DE2-42D5-8F44-CBEB0CF6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936-9F7E-4060-86DF-B9DDE456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7DD95-0330-4CAB-B17B-F02BA708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0FD84-DE94-4342-B753-0B62D3E4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F0694-CCE2-4E24-AEF1-FD00A399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A09CE-14E7-43CA-A207-C08CB478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7601D-B007-4C60-AE27-2C397B7F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1872C-39DA-4FC5-B7EF-FD6C76B6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E41AE-8E5E-4916-BC40-4C2145CA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B4259-557E-4FC8-B2DD-59209AB3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2D9F9-1476-47F7-8683-A47D82DA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46412-3B4E-483F-A992-9C719056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56F-3EA7-4756-8E3E-63B169E7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390DE-7FDD-493C-8AA1-B9AED2EB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B2C4A-E38A-471B-82DA-D904343F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B6455-3547-49C4-B72D-B6005902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0BFEF-4C96-4510-8D2D-60607845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59376-5C5F-4447-82B2-BF61DBC0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4BFD0-981B-418C-BA10-81C8EAAD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7CE49-2F8E-4A8A-8574-F0C50D7E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DE547-421B-4F2D-9C50-27B39594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DF12D-E26D-4B07-897F-8F11F551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821B7-4C87-4415-B5E9-DB4F5FB6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09.xml"/><Relationship Id="rId32" Type="http://schemas.openxmlformats.org/officeDocument/2006/relationships/slideLayout" Target="../slideLayouts/slideLayout110.xml"/><Relationship Id="rId33" Type="http://schemas.openxmlformats.org/officeDocument/2006/relationships/slideLayout" Target="../slideLayouts/slideLayout111.xml"/><Relationship Id="rId34" Type="http://schemas.openxmlformats.org/officeDocument/2006/relationships/slideLayout" Target="../slideLayouts/slideLayout112.xml"/><Relationship Id="rId35" Type="http://schemas.openxmlformats.org/officeDocument/2006/relationships/slideLayout" Target="../slideLayouts/slideLayout113.xml"/><Relationship Id="rId36" Type="http://schemas.openxmlformats.org/officeDocument/2006/relationships/slideLayout" Target="../slideLayouts/slideLayout114.xml"/><Relationship Id="rId37" Type="http://schemas.openxmlformats.org/officeDocument/2006/relationships/slideLayout" Target="../slideLayouts/slideLayout115.xml"/><Relationship Id="rId38" Type="http://schemas.openxmlformats.org/officeDocument/2006/relationships/slideLayout" Target="../slideLayouts/slideLayout116.xml"/><Relationship Id="rId39" Type="http://schemas.openxmlformats.org/officeDocument/2006/relationships/slideLayout" Target="../slideLayouts/slideLayout117.xml"/><Relationship Id="rId40" Type="http://schemas.openxmlformats.org/officeDocument/2006/relationships/slideLayout" Target="../slideLayouts/slideLayout118.xml"/><Relationship Id="rId41" Type="http://schemas.openxmlformats.org/officeDocument/2006/relationships/slideLayout" Target="../slideLayouts/slideLayout119.xml"/><Relationship Id="rId4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42A6-257D-4674-AF9D-4A3EF2021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1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2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2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3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4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5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BA93-CDD6-4A6C-B217-E010FA0122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1"/>
    <p:sldLayoutId id="2147483767" r:id="rId32"/>
    <p:sldLayoutId id="2147483768" r:id="rId33"/>
    <p:sldLayoutId id="2147483769" r:id="rId34"/>
    <p:sldLayoutId id="2147483770" r:id="rId35"/>
    <p:sldLayoutId id="2147483771" r:id="rId36"/>
    <p:sldLayoutId id="2147483772" r:id="rId37"/>
    <p:sldLayoutId id="2147483773" r:id="rId38"/>
    <p:sldLayoutId id="2147483774" r:id="rId39"/>
    <p:sldLayoutId id="2147483775" r:id="rId40"/>
    <p:sldLayoutId id="2147483776" r:id="rId41"/>
    <p:sldLayoutId id="2147483777" r:id="rId4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1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5544-3561-45AA-87FE-54F565A7817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7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0B26-3C43-4BDA-8F20-EEEB747FA16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3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4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6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196E-BEAB-408B-B26F-D17BB208211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1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1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84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1DB9-17C6-4E9C-9AF5-6A9C4D6F949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9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9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0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2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FEB8-305A-4DDC-A903-18B0B3CE74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9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9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1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3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4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F82A-9F8B-4BF0-B2A4-3FEEEA8E94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5ADF-518C-4755-95FE-41CDBAE8E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1391-AC6E-4D2C-94E1-566C8C085B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5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2981-6BCC-4618-8561-C5D73C0366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3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C7AE-B539-44B0-90E8-17B7C9EB23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79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3B3C-E1A3-4D29-ADEC-73AA16BCE4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6EDA-66B6-47A1-985F-A8F36E3C2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7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7690-E38F-45A8-B5A3-22D523144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3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6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7EA6-156C-4020-B920-332BF82695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 txBox="1"/>
          <p:nvPr/>
        </p:nvSpPr>
        <p:spPr>
          <a:xfrm>
            <a:off x="468360" y="765000"/>
            <a:ext cx="867564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ЛИЧНОС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ЭКОНОМ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763640" y="2997360"/>
            <a:ext cx="432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0" y="11937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cc66"/>
                </a:solidFill>
                <a:latin typeface="Tahoma"/>
              </a:rPr>
              <a:t>Цель урок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читься планировать доходы и рас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Понять важность постоянной работы по ведению семейной бухгал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Ознакомиться с возможностями информационных технологий в домашней эконом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Тема: Семейная бухгалтер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68360" y="4149720"/>
            <a:ext cx="822960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Основные понят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мейная бухгалтерия, дефицит бюджета, планирование бюджета, семейная бухгалтер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Бюджет семьи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0" y="1700280"/>
            <a:ext cx="9144000" cy="4392360"/>
            <a:chOff x="0" y="1700280"/>
            <a:chExt cx="9144000" cy="4392360"/>
          </a:xfrm>
        </p:grpSpPr>
        <p:sp>
          <p:nvSpPr>
            <p:cNvPr id="1107" name=""/>
            <p:cNvSpPr/>
            <p:nvPr/>
          </p:nvSpPr>
          <p:spPr>
            <a:xfrm>
              <a:off x="4029480" y="2578680"/>
              <a:ext cx="774720" cy="878400"/>
            </a:xfrm>
            <a:prstGeom prst="triangle">
              <a:avLst>
                <a:gd name="adj" fmla="val 50000"/>
              </a:avLst>
            </a:prstGeom>
            <a:solidFill>
              <a:srgbClr val="0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549800" y="1700280"/>
              <a:ext cx="5889240" cy="175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0" y="3457080"/>
              <a:ext cx="3099600" cy="263556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Доход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734440" y="1700280"/>
              <a:ext cx="3409560" cy="322092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Расход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Arial"/>
              </a:rPr>
              <a:t>Бюджет семьи Ивановых на август 2001г. </a:t>
            </a:r>
            <a:br>
              <a:rPr sz="8800"/>
            </a:br>
            <a:r>
              <a:rPr b="1" lang="en-US" sz="8800" spc="-1" strike="noStrike">
                <a:solidFill>
                  <a:srgbClr val="ccecff"/>
                </a:solidFill>
                <a:latin typeface="Arial"/>
              </a:rPr>
              <a:t>(в рублях)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2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3492360"/>
                <a:gridCol w="1150920"/>
                <a:gridCol w="3457800"/>
                <a:gridCol w="10429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Источники доходо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Сумм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Планируемые расход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Сумм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I.</a:t>
                      </a:r>
                      <a:r>
                        <a:rPr b="0" lang="ru-RU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Зарпл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рия Алексеевич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льги Петров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II</a:t>
                      </a:r>
                      <a:r>
                        <a:rPr b="0" lang="ru-RU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.Социальные плате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нсия  Татьяны Васильев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III</a:t>
                      </a:r>
                      <a:r>
                        <a:rPr b="0" lang="ru-RU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.Предпринимательский</a:t>
                      </a:r>
                      <a:r>
                        <a:rPr b="0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ru-RU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дох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Ольги Петровны за машинописные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IV</a:t>
                      </a:r>
                      <a:r>
                        <a:rPr b="0" lang="ru-RU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.Натуральный дох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ято из погреба выращенных на участке овощ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V</a:t>
                      </a:r>
                      <a:r>
                        <a:rPr b="0" lang="ru-RU" sz="1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. Процен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банковскому вклад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Доход по облигациям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I.Постоянные рас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квартир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коммунальные услуг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телеф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питание детей в шко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удожественная школа (Андр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пит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бытовую хими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проезд в транспор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охрану шко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II.</a:t>
                      </a:r>
                      <a:r>
                        <a:rPr b="1" lang="ru-RU" sz="16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Переменные рас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увь (сапоги Свет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ежда (куртка Юрию Алексеевичу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писка на газеты и журналы на следующи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еокасс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ски и кисти (Андрею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монт зимней обув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3" name=""/>
          <p:cNvGraphicFramePr/>
          <p:nvPr/>
        </p:nvGraphicFramePr>
        <p:xfrm>
          <a:off x="0" y="1628640"/>
          <a:ext cx="9144000" cy="4743720"/>
        </p:xfrm>
        <a:graphic>
          <a:graphicData uri="http://schemas.openxmlformats.org/drawingml/2006/table">
            <a:tbl>
              <a:tblPr/>
              <a:tblGrid>
                <a:gridCol w="2843280"/>
                <a:gridCol w="1512720"/>
                <a:gridCol w="3240360"/>
                <a:gridCol w="15476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Источн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доход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Планируем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расход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сего расходов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6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ланируем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бережени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вокупный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ох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сего расходов и сбережен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Бюджет семьи Ивановых на август 2001г.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(продолжение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b7"/>
                </a:solidFill>
                <a:latin typeface="Arial Black"/>
              </a:rPr>
              <a:t>C</a:t>
            </a:r>
            <a:r>
              <a:rPr b="0" lang="ru-RU" sz="7200" spc="-1" strike="noStrike">
                <a:solidFill>
                  <a:srgbClr val="ffffb7"/>
                </a:solidFill>
                <a:latin typeface="Arial Black"/>
              </a:rPr>
              <a:t>труктура семейного бюджета </a:t>
            </a:r>
            <a:r>
              <a:rPr b="1" lang="ru-RU" sz="7200" spc="-1" strike="noStrike">
                <a:solidFill>
                  <a:srgbClr val="ffffb7"/>
                </a:solidFill>
                <a:latin typeface="Arial Black"/>
              </a:rPr>
              <a:t>(примерная)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6" name=""/>
          <p:cNvGraphicFramePr/>
          <p:nvPr/>
        </p:nvGraphicFramePr>
        <p:xfrm>
          <a:off x="0" y="0"/>
          <a:ext cx="9144000" cy="6857640"/>
        </p:xfrm>
        <a:graphic>
          <a:graphicData uri="http://schemas.openxmlformats.org/drawingml/2006/table">
            <a:tbl>
              <a:tblPr/>
              <a:tblGrid>
                <a:gridCol w="3689280"/>
                <a:gridCol w="882720"/>
                <a:gridCol w="3692520"/>
                <a:gridCol w="879480"/>
              </a:tblGrid>
              <a:tr h="104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ЙНЫЕ Д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 ПРОЦЕНТАХ К ОБЩЕМУ ДОХОДУ СЕМЬ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ЙНЫЕ РАС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 ПРОЦЕНТАХ К ОБЩИМ РАСХОДАМ СЕМЬИ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 членов семь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и, стипендии, пособ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от личного подсобног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я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других источ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ые платежи, сборы, налоги, оплата квартиры и д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т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епродовольственные товары: обувь, мебель, предметы домашнего обих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ультурно-бытовые услуги (кино, театр, музей и т.д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копления, сбереж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92476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ahoma"/>
              </a:rPr>
              <a:t>Инструкция по выполнению практической работы –</a:t>
            </a:r>
            <a:br>
              <a:rPr sz="3400"/>
            </a:br>
            <a:r>
              <a:rPr b="1" lang="en-US" sz="3400" spc="-1" strike="noStrike">
                <a:solidFill>
                  <a:srgbClr val="ffffcc"/>
                </a:solidFill>
                <a:latin typeface="Tahoma"/>
              </a:rPr>
              <a:t>Определение структуры бюджета</a:t>
            </a: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263520" y="1773360"/>
            <a:ext cx="88804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чертить таблиц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ервую колонку записать виды доходов и их величину (в рублях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ретью колонку записать виды расходов и их величину (в рублях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считать процент каждого вида доходов от их суммы и внести результат в колонк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2  (%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считать процент каждого вида расходов от их суммы и внести результат в колонк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4  (%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авните структуру бюджета вашей семьи со среднестатистической структурой по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1:05:18Z</dcterms:created>
  <dc:creator>user</dc:creator>
  <dc:description/>
  <dc:language>en-US</dc:language>
  <cp:lastModifiedBy>user</cp:lastModifiedBy>
  <dcterms:modified xsi:type="dcterms:W3CDTF">2006-12-01T13:25:33Z</dcterms:modified>
  <cp:revision>2</cp:revision>
  <dc:subject/>
  <dc:title> </dc:title>
</cp:coreProperties>
</file>